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6CAD-A14E-4DDE-84C6-024A565E2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CDA5-9CD6-4F31-A4FA-AE0EFB1F8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62D4-FDF1-48D2-BD14-96F8870F6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04F6-480F-4C1E-A05A-723775605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875E-7ABA-4166-A8B8-D8743F884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5375-70AE-4153-A3F6-F5282B4CD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D6D3-8A89-48D4-B740-7F8C01554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D1E0-188B-422D-9561-E0899BC59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6084-0BEA-4F22-B5DE-C9CA62C50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5DEA-8566-40CD-92E7-F39A5FD85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7D4C-4C4C-41F0-AA67-AE7348F1A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A9B4-3871-4806-8FBF-E77EF513F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2EA3-304B-4D03-B57D-7DFD05586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71EF-8068-4620-A2C0-BA8B57BB6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CF80-6690-47F6-A7D6-494EFC336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88D0-9874-4236-9D4B-7F1A66EFE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2BE4-3F0E-4CA0-8357-A30600301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1AF8-4A5C-488B-BF6F-9F6468EAD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2B0A-B98D-460D-A662-91788E2D6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74E8-7A11-4487-AFF5-4729F1723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046F-7C83-417B-A769-8111512B6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7876-1189-4114-9BE2-4E4063B19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E121-F078-453C-B4D9-A1BFA8B08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1E3C-E189-4859-AF9A-0F18A830B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E0F4-F8BF-44C6-9D66-511A20345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F76C-EFB1-4FE7-8053-EB549B0E3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6AEC-4F93-4903-B1D8-B0EA2196D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1010-A1AA-4BF8-B10D-64EFC3943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42E5-A7B6-4FB3-A10E-00F98A623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9E82-C750-41D4-B347-827834DC8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1199-D411-41ED-B616-02FC97988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83A9-A6AA-41C1-AACA-ED099EF4A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B16A-ACAC-47DC-A1CF-C8F13D606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22C7-659B-4FD0-9044-EF06D0543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889F-9403-47FF-A900-345B2FAA8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022C-8B85-4C49-BA64-B6CA075C8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46EF-4EE3-44EA-964B-B13F0322C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252B-F38A-475D-9329-1DF054E6B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84C8-84A7-4937-BC68-0263E5B4A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AC8A-178A-45EF-B18F-B32690A35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E353-68DC-4DA5-B88D-08FF6B93E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31FA-419E-4F35-9111-A6DABB286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D3A3-474E-482E-A578-9EC0D5926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315C-5EE7-4CE2-848C-6876DAD84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9280-B284-4D1C-A81F-55D34DB37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C1B8-A954-4F5E-AE8B-2EB0308AC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4F24-6803-4C7B-A5B2-2AFAF0C15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8EEB-4631-4A4A-B758-73FD5B206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50000">
                <a:srgbClr val="4d4d4d"/>
              </a:gs>
              <a:gs pos="100000">
                <a:srgbClr val="c1c1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w Cen MT Condensed"/>
              </a:rPr>
              <a:t>Typ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onio Cisternin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useppe Attard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versità di Pis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emory layou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10920" y="1980720"/>
            <a:ext cx="51130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 element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name[2]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atomic_number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uble atomic_weigh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metallic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3"/>
          <p:cNvGrpSpPr/>
          <p:nvPr/>
        </p:nvGrpSpPr>
        <p:grpSpPr>
          <a:xfrm>
            <a:off x="5724360" y="1720800"/>
            <a:ext cx="2880000" cy="2284560"/>
            <a:chOff x="5724360" y="1720800"/>
            <a:chExt cx="2880000" cy="2284560"/>
          </a:xfrm>
        </p:grpSpPr>
        <p:sp>
          <p:nvSpPr>
            <p:cNvPr id="119" name="Rectangle 4"/>
            <p:cNvSpPr/>
            <p:nvPr/>
          </p:nvSpPr>
          <p:spPr>
            <a:xfrm>
              <a:off x="5724360" y="2276640"/>
              <a:ext cx="2880000" cy="172872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>
              <a:off x="5724360" y="1916280"/>
              <a:ext cx="28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" name="Text Box 6"/>
            <p:cNvSpPr/>
            <p:nvPr/>
          </p:nvSpPr>
          <p:spPr>
            <a:xfrm>
              <a:off x="6372720" y="1720800"/>
              <a:ext cx="1652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bytes/32 bits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5724360" y="2276640"/>
              <a:ext cx="14400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5724360" y="2708280"/>
              <a:ext cx="2880000" cy="433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omic_numb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5724360" y="3141720"/>
              <a:ext cx="28800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omic_weight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5724360" y="3573360"/>
              <a:ext cx="719280" cy="432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llic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ptimizing Memory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requires that fields of struct be placed in the same order of the declaration (essential for working with pointers!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all languages behaves like this: for instance ML doesn’t specify any or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 compiler is free of reorganizing fields holes can be minimized (in the example by pack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etall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am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ving 4 byt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"/>
          <p:cNvGrpSpPr/>
          <p:nvPr/>
        </p:nvGrpSpPr>
        <p:grpSpPr>
          <a:xfrm>
            <a:off x="4643280" y="3860640"/>
            <a:ext cx="2880000" cy="2284560"/>
            <a:chOff x="4643280" y="3860640"/>
            <a:chExt cx="2880000" cy="2284560"/>
          </a:xfrm>
        </p:grpSpPr>
        <p:sp>
          <p:nvSpPr>
            <p:cNvPr id="129" name="Rectangle 5"/>
            <p:cNvSpPr/>
            <p:nvPr/>
          </p:nvSpPr>
          <p:spPr>
            <a:xfrm>
              <a:off x="4643280" y="4416480"/>
              <a:ext cx="2880000" cy="172872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>
              <a:off x="4643280" y="4056120"/>
              <a:ext cx="28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5291640" y="3860640"/>
              <a:ext cx="1652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bytes/32 bits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2" name="Rectangle 8"/>
            <p:cNvSpPr/>
            <p:nvPr/>
          </p:nvSpPr>
          <p:spPr>
            <a:xfrm>
              <a:off x="4643280" y="4416480"/>
              <a:ext cx="14400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3" name="Rectangle 9"/>
            <p:cNvSpPr/>
            <p:nvPr/>
          </p:nvSpPr>
          <p:spPr>
            <a:xfrm>
              <a:off x="4643280" y="4848120"/>
              <a:ext cx="2880000" cy="433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omic_numb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4" name="Rectangle 10"/>
            <p:cNvSpPr/>
            <p:nvPr/>
          </p:nvSpPr>
          <p:spPr>
            <a:xfrm>
              <a:off x="4643280" y="5281560"/>
              <a:ext cx="28800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omic_weight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5" name="Rectangle 11"/>
            <p:cNvSpPr/>
            <p:nvPr/>
          </p:nvSpPr>
          <p:spPr>
            <a:xfrm>
              <a:off x="4643280" y="5713200"/>
              <a:ext cx="719280" cy="432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llic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4360" y="1981080"/>
            <a:ext cx="8229600" cy="17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on types allow sharing the same memory area among different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ize of the value is the maximum of the constitu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0"/>
          <p:cNvGrpSpPr/>
          <p:nvPr/>
        </p:nvGrpSpPr>
        <p:grpSpPr>
          <a:xfrm>
            <a:off x="4643280" y="3860640"/>
            <a:ext cx="2881440" cy="2284560"/>
            <a:chOff x="4643280" y="3860640"/>
            <a:chExt cx="2881440" cy="2284560"/>
          </a:xfrm>
        </p:grpSpPr>
        <p:sp>
          <p:nvSpPr>
            <p:cNvPr id="139" name="Rectangle 13"/>
            <p:cNvSpPr/>
            <p:nvPr/>
          </p:nvSpPr>
          <p:spPr>
            <a:xfrm>
              <a:off x="4643280" y="4416480"/>
              <a:ext cx="2880000" cy="1728720"/>
            </a:xfrm>
            <a:prstGeom prst="rect">
              <a:avLst/>
            </a:prstGeom>
            <a:solidFill>
              <a:srgbClr val="ff00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0" name="Line 14"/>
            <p:cNvSpPr/>
            <p:nvPr/>
          </p:nvSpPr>
          <p:spPr>
            <a:xfrm>
              <a:off x="4643280" y="4056120"/>
              <a:ext cx="28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1" name="Text Box 15"/>
            <p:cNvSpPr/>
            <p:nvPr/>
          </p:nvSpPr>
          <p:spPr>
            <a:xfrm>
              <a:off x="5291640" y="3860640"/>
              <a:ext cx="1652760" cy="3682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bytes/32 bits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4643280" y="4416480"/>
              <a:ext cx="2881440" cy="431640"/>
            </a:xfrm>
            <a:prstGeom prst="rect">
              <a:avLst/>
            </a:prstGeom>
            <a:solidFill>
              <a:srgbClr val="3366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43" name="Text Box 21"/>
          <p:cNvSpPr/>
          <p:nvPr/>
        </p:nvSpPr>
        <p:spPr>
          <a:xfrm>
            <a:off x="1141920" y="4759200"/>
            <a:ext cx="27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on  u {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element e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bstract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the abstraction-based view of types a type is an interf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DT defines a set of values and the operations allowed on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ir evolution programming languages have included mechanisms to define AD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of an ADT requires the ability of incapsulating values and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: a C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node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list *nex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node* next(struct node* l) { return l-&gt;next;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node* initNode(struct node* l, int v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-&gt;val = v; l-&gt;next = NULL; return 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end(struct node* l, int v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node p = 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p-&gt;next) p = p-&gt;nex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-&gt;next =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Node((struct node)malloc(sizeof(struct node)), v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DT, Modules an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doesn’t provide any mechanism to hide the structure of data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ogram can access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inter without using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otion of module has been introduced to define data types and restrict the access to their defi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volution of module is the class: values and operations are tied together (with the addition of inherit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ass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is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ype construct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ke struct and ar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lass combines other types like str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definition contains also methods which are the operations allowed on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heritan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 is introduc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special operations provide control over initialization and finalization of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Node Type in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Node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 m_nex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(int v) { val = v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 next() { return m_next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append(int v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 n = thi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.m_next != null) n = n.m_nex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.m_next = new Node(v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clas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herits from clas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&lt;: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when an object of clas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expected an object of clas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an be used inste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eritance expresses the idea of adding features to an existing type (both methods and attribut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eritance can be single or multi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foo() { return i + j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B : A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k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foo() { return k + super.foo()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hardware is capable of interpreting bits in memory in several different w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ype limits the set of operations that may be performed on a value belonging to that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hardware usually doesn’t enforce the notion of type, though it provides operations for numbers and poin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ing languages tend to associate types to values to enforce error-check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the follow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a = new A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b = new B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ole.WriteLine(a.foo()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ole.WriteLine(b.foo()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version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invoked in the second prin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layout of clas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pca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binding happens because we convert a reference to an object of class B into a reference of its super-clas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upcas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b = new B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a = b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untime should not convert the object: only use the part inherited from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different from the following implicit cast where the data is modified in the assign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 = 1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l 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ownca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ce we have a reference of the super-class we may want to convert it back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a = new B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b = (B)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wnca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t is necessary to explicitly indicate which class is the target: a class may be the ancestor of many sub-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ain this transformation informs the compiler that the referenced object is of type B without changing the object in any w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pcasting, downca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have shown upcasting and downcasting as expressed in languages such as C++, C# and Java; though the problem is common to OO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the upcast can be verified at compile time whereas the downcast can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asting and downcasting don’t require runtime type check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Java casts are checked at run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 simply changes the interpretation of an expression at compile time without any attempt to check it at run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te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utput of the example depends on the language: the second output may be the result of invok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::foo(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::foo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Java the behavior would result in the invocation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::fo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+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::fo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ould be invok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chanism which associates the metho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::foo(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.foo(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te b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te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6348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example the compiler cannot determine statically the exact type of the object referenced b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cause of upca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llow the invocation of the method of the exact type rather than the one known at compile time it is necessary to pay an overhead at run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ing languages allow the programmer to specify whether to apply late binding in a method inv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Java the keywor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sed to indicate that a method cannot be overridden in subclasses: thus the JVM may avoid late bi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C++ only methods declared 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considered for late bind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te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inheritance it is possible to treat objects in a generic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nefit is evident: it is possible to write generic operations manipulating objects of types inheriting from a common ances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OP languages usually support late binding of methods: which method should be invoked is determined at run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involves a small runtime overhead: at runtime the type of an object should be determined in order to invoke its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 (Jav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72840" y="1980720"/>
            <a:ext cx="43304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void foo() {…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baz() {…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bar() {…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B extends A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Suppose it’s possibl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void foo() {…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bar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03280" y="1980720"/>
            <a:ext cx="3683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a = new A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b = new B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c = b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foo(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A::foo(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baz(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A::baz(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bar(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A::bar(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.foo(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B::foo(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.bar(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B::bar(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.foo(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A::foo(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.bar(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B::bar(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6348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it is necessary to model a s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objects which can be partitioned into subsets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uch that their union cover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, 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use classes to model each set it is natural t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&lt;: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object is an instance of a subclass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no object is an instanc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seful because it abstracts the commonalities among its subclasses, allowing to express generic properties about its objec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 to manipulate documents with different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t of documents can be partitioned by type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so 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document type we introduce a class that inherits from a clas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represents the docu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las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 may store common properties to all documents (title, location,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lass is responsible for reading the document cont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doesn’t make sense to have an instanc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ough it is useful to scan a list of documents to 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63480" y="1916280"/>
            <a:ext cx="8229600" cy="43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ype system consists of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echanism for defining types and associating them with certain language constr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et of rules fo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equivalence: two values are the s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compatibility: a value of a given type can be used in a given con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inference: type of an expression given the type of its constitu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bstract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when a class is abstract some of its methods could not be defin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the metho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ad(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the previous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las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re is no reasonable implementation for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leave i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o that through late binding the appropriate implementation will be cal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6348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can be declared using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stra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word in Java or C#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stract class Doc { …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++ assumes a class is abstract if it contains an abstrac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impossible to instantiate an abstract class, since it will lack that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tual method is abstract in C++ if its definition is emp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string Read() 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Java and C# abstract methods are annotated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no body is provid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stract String Read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eritance is a relation among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systems impose some restriction on inheritance relation for conven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say that class A is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f all its members are abstract; has no fields and may inherit only from one or more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eritance can b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(A &lt;: 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A &lt;: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 = B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-in (S = {B | A &lt;: B}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(no restri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ultiple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systems should impose restrictions on inheritanc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inheritance introduces both conceptual and implementation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rucial problem, in its simplest form, is the follow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&lt;: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 &lt;: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&lt;: B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 &lt;: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esence of a common ancesto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stance part from A is shared between B and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stance part from A is duplic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ituation is not infrequent: in C++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&gt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stre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&gt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stre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ostre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: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stre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ostre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: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str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blem in sharing the ancestor A is that B and C may change the inherited state in a way that may lead to confli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ava and Mix-in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6348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single and mix-in inheritance fix the common ancesto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ugh single inheritance can be somewhat restri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-in inheritance has become popular with Java and represents an intermediate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es are partitioned into two sets: interfaces and normal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constraints elements of the class to be only abstract methods: no instance variables are allow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inherits instance variables only from one of its ancestors avoiding the diamond problem of multiple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Implementing Single and Mix-in inheri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8108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nly in combining the state of a class and its super-class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826920" y="4003560"/>
            <a:ext cx="1368720" cy="100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700360" y="4003560"/>
            <a:ext cx="1368360" cy="100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700360" y="5011560"/>
            <a:ext cx="1368360" cy="4334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405080" y="35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060360" y="350028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lt;: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4500720" y="4003560"/>
            <a:ext cx="1368360" cy="100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4500720" y="5011560"/>
            <a:ext cx="1368360" cy="4334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717080" y="35002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&lt;:B&lt;: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6300720" y="4003560"/>
            <a:ext cx="1368360" cy="100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6300720" y="5011560"/>
            <a:ext cx="1368360" cy="4334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6301080" y="350028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&lt;:C&lt;:B&lt;: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6300720" y="5445000"/>
            <a:ext cx="1368360" cy="6480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AutoShape 17"/>
          <p:cNvSpPr/>
          <p:nvPr/>
        </p:nvSpPr>
        <p:spPr>
          <a:xfrm>
            <a:off x="3708360" y="2060640"/>
            <a:ext cx="5256360" cy="1511280"/>
          </a:xfrm>
          <a:prstGeom prst="wedgeRoundRectCallout">
            <a:avLst>
              <a:gd name="adj1" fmla="val -43055"/>
              <a:gd name="adj2" fmla="val 77416"/>
              <a:gd name="adj3" fmla="val 16667"/>
            </a:avLst>
          </a:prstGeom>
          <a:solidFill>
            <a:srgbClr val="adc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Upcasting and Downcasting comes for free: the pointer at the base of the instance can be seen both as a pointer to an instance of A or 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Implementing multiple inheri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90400" y="1628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multiple inheritance becomes more complex than reinterpreting a pointer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11280" y="3651120"/>
            <a:ext cx="136836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122560" y="3651120"/>
            <a:ext cx="136836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122560" y="4300560"/>
            <a:ext cx="1368360" cy="4334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189080" y="3147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482200" y="314784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lt;: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3706920" y="3651120"/>
            <a:ext cx="136836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6920" y="4300560"/>
            <a:ext cx="1368360" cy="4334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066920" y="3147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&lt;: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5292720" y="3652920"/>
            <a:ext cx="136512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6804000" y="4300560"/>
            <a:ext cx="136836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C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6804000" y="3652920"/>
            <a:ext cx="136836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B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5289480" y="4300560"/>
            <a:ext cx="1368360" cy="4334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5289480" y="4730760"/>
            <a:ext cx="1368360" cy="4334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6802560" y="4948200"/>
            <a:ext cx="1368360" cy="4334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802560" y="5378400"/>
            <a:ext cx="1368360" cy="4334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5289480" y="5164200"/>
            <a:ext cx="136836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6802560" y="5813280"/>
            <a:ext cx="136836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5290200" y="3141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&lt;:B, D&lt;:C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6817320" y="3141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&lt;:B, D&lt;:C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te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63480" y="183672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identify which method to invok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use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-ta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class that has polymorphic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virtual method is assigned a slot in the table pointing to the method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king the method involves looking up in the table at a specific offset to retrieve the address to use i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instance holds a pointer to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-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late binding incurs an overhead both in time (2 indirections) and space (one pointer per objec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verhead is small and often worth the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72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te binding: an example (Jav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51960" y="1988640"/>
            <a:ext cx="2590920" cy="25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oo() {…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() {…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ai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B extends A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oo() {…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g() {…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i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676680" y="206064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3676680" y="24192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676680" y="34290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3676680" y="378792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676680" y="4149720"/>
            <a:ext cx="1511280" cy="35892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3729960" y="1647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s v-tabl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723480" y="3062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’s v-tabl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Line 12"/>
          <p:cNvSpPr/>
          <p:nvPr/>
        </p:nvSpPr>
        <p:spPr>
          <a:xfrm flipH="1" flipV="1">
            <a:off x="2523960" y="386064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Line 13"/>
          <p:cNvSpPr/>
          <p:nvPr/>
        </p:nvSpPr>
        <p:spPr>
          <a:xfrm flipH="1" flipV="1">
            <a:off x="2379240" y="2708280"/>
            <a:ext cx="1297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Line 14"/>
          <p:cNvSpPr/>
          <p:nvPr/>
        </p:nvSpPr>
        <p:spPr>
          <a:xfrm flipH="1" flipV="1">
            <a:off x="2739960" y="3573000"/>
            <a:ext cx="936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Line 15"/>
          <p:cNvSpPr/>
          <p:nvPr/>
        </p:nvSpPr>
        <p:spPr>
          <a:xfrm flipH="1">
            <a:off x="2668680" y="2276640"/>
            <a:ext cx="1008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Line 16"/>
          <p:cNvSpPr/>
          <p:nvPr/>
        </p:nvSpPr>
        <p:spPr>
          <a:xfrm flipH="1">
            <a:off x="252396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6124680" y="22050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Rectangle 18"/>
          <p:cNvSpPr/>
          <p:nvPr/>
        </p:nvSpPr>
        <p:spPr>
          <a:xfrm>
            <a:off x="6124680" y="184644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-poin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Rectangle 19"/>
          <p:cNvSpPr/>
          <p:nvPr/>
        </p:nvSpPr>
        <p:spPr>
          <a:xfrm>
            <a:off x="6558120" y="357192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Rectangle 20"/>
          <p:cNvSpPr/>
          <p:nvPr/>
        </p:nvSpPr>
        <p:spPr>
          <a:xfrm>
            <a:off x="6558120" y="32130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-poin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6558120" y="3933720"/>
            <a:ext cx="1511280" cy="35892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Line 22"/>
          <p:cNvSpPr/>
          <p:nvPr/>
        </p:nvSpPr>
        <p:spPr>
          <a:xfrm flipH="1">
            <a:off x="5187960" y="1989000"/>
            <a:ext cx="936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Line 24"/>
          <p:cNvSpPr/>
          <p:nvPr/>
        </p:nvSpPr>
        <p:spPr>
          <a:xfrm flipH="1">
            <a:off x="5187600" y="335772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792720" y="4981680"/>
            <a:ext cx="21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a = new A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foo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f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672360" y="497520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b = new B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foo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g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f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6266880" y="50338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c = b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.foo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.f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8213400" y="21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8502480" y="270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Line 31"/>
          <p:cNvSpPr/>
          <p:nvPr/>
        </p:nvSpPr>
        <p:spPr>
          <a:xfrm flipH="1" flipV="1">
            <a:off x="7635600" y="1844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Line 32"/>
          <p:cNvSpPr/>
          <p:nvPr/>
        </p:nvSpPr>
        <p:spPr>
          <a:xfrm flipH="1">
            <a:off x="8069040" y="299736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Text Box 33"/>
          <p:cNvSpPr/>
          <p:nvPr/>
        </p:nvSpPr>
        <p:spPr>
          <a:xfrm>
            <a:off x="8645400" y="3357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Line 34"/>
          <p:cNvSpPr/>
          <p:nvPr/>
        </p:nvSpPr>
        <p:spPr>
          <a:xfrm flipH="1" flipV="1">
            <a:off x="8069040" y="3213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2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2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2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2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verriding and Overlo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51960" y="1988640"/>
            <a:ext cx="2590920" cy="25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o() {…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() {…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ai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 B extends A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o(int i) {…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g() {…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bi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676680" y="206064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(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676680" y="24192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676680" y="34290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(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676680" y="378936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676680" y="4583160"/>
            <a:ext cx="1511280" cy="35856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729960" y="1647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s v-tabl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3723480" y="3062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’s v-tabl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Line 11"/>
          <p:cNvSpPr/>
          <p:nvPr/>
        </p:nvSpPr>
        <p:spPr>
          <a:xfrm flipH="1" flipV="1">
            <a:off x="2523960" y="386064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Line 12"/>
          <p:cNvSpPr/>
          <p:nvPr/>
        </p:nvSpPr>
        <p:spPr>
          <a:xfrm flipH="1" flipV="1">
            <a:off x="2379240" y="2708280"/>
            <a:ext cx="1297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Line 13"/>
          <p:cNvSpPr/>
          <p:nvPr/>
        </p:nvSpPr>
        <p:spPr>
          <a:xfrm flipH="1" flipV="1">
            <a:off x="2739960" y="3573000"/>
            <a:ext cx="936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Line 14"/>
          <p:cNvSpPr/>
          <p:nvPr/>
        </p:nvSpPr>
        <p:spPr>
          <a:xfrm flipH="1">
            <a:off x="2668680" y="2276640"/>
            <a:ext cx="1008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Line 15"/>
          <p:cNvSpPr/>
          <p:nvPr/>
        </p:nvSpPr>
        <p:spPr>
          <a:xfrm flipH="1">
            <a:off x="252396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6124680" y="22050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6124680" y="184644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-poin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6558120" y="357192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6558120" y="32130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-poin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Rectangle 20"/>
          <p:cNvSpPr/>
          <p:nvPr/>
        </p:nvSpPr>
        <p:spPr>
          <a:xfrm>
            <a:off x="6558120" y="3933720"/>
            <a:ext cx="1511280" cy="35892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Line 21"/>
          <p:cNvSpPr/>
          <p:nvPr/>
        </p:nvSpPr>
        <p:spPr>
          <a:xfrm flipH="1">
            <a:off x="5187960" y="1989000"/>
            <a:ext cx="936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Line 22"/>
          <p:cNvSpPr/>
          <p:nvPr/>
        </p:nvSpPr>
        <p:spPr>
          <a:xfrm flipH="1">
            <a:off x="5187600" y="335772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792720" y="4981680"/>
            <a:ext cx="21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a = new A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foo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f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3672360" y="497520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b = new B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foo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g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f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Text Box 25"/>
          <p:cNvSpPr/>
          <p:nvPr/>
        </p:nvSpPr>
        <p:spPr>
          <a:xfrm>
            <a:off x="6266520" y="50338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c = b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.foo(3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.f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8213400" y="21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Text Box 27"/>
          <p:cNvSpPr/>
          <p:nvPr/>
        </p:nvSpPr>
        <p:spPr>
          <a:xfrm>
            <a:off x="8502480" y="270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Line 28"/>
          <p:cNvSpPr/>
          <p:nvPr/>
        </p:nvSpPr>
        <p:spPr>
          <a:xfrm flipH="1" flipV="1">
            <a:off x="7635600" y="1844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Line 29"/>
          <p:cNvSpPr/>
          <p:nvPr/>
        </p:nvSpPr>
        <p:spPr>
          <a:xfrm flipH="1">
            <a:off x="8069040" y="299736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Text Box 30"/>
          <p:cNvSpPr/>
          <p:nvPr/>
        </p:nvSpPr>
        <p:spPr>
          <a:xfrm>
            <a:off x="8645400" y="3357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Line 31"/>
          <p:cNvSpPr/>
          <p:nvPr/>
        </p:nvSpPr>
        <p:spPr>
          <a:xfrm flipH="1" flipV="1">
            <a:off x="8069040" y="3213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Rectangle 32"/>
          <p:cNvSpPr/>
          <p:nvPr/>
        </p:nvSpPr>
        <p:spPr>
          <a:xfrm>
            <a:off x="3676680" y="4149720"/>
            <a:ext cx="1511280" cy="35892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(int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2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1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2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7" dur="1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5" dur="1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3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5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2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1" dur="1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2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5" dur="2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9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63480" y="17712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ype check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the process of ensuring that a program obeys the language’s type compatibility r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anguage 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rongly typ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ype saf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f it prohibits, in a way that the language implementation can enforce, performing an operation on an object that does not support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anguage 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atically typ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f it 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rongly typ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ype checking can be performed 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ile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VM invokevir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all lik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.equals("test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lated in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oad_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push local variable 1 (x) onto the operand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c "tes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push str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test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nto the operand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vokevirtual java.lang.Object.equals(Ljava.lang.Object;)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lang.Object.equals(Ljava.lang.Object;)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method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invokevirtual is executed, the JVM looks at method specification and determines its # of ar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object reference it retrieves the class, searches the list of methods for one matching the method descript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not found, searches its super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vokevirtual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Java compiler can arrange every subclass method table (mtable) in the same way as its superclass, ensuring that each method is located at the same off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ytecode can be modified after first execution, by replacing wit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vokevirtual_quick mtable-off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when called on objects of different types, the method offset will be the s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irtual Method in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 does not work for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face Incrementable { public void incr()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Counter implements Incrementable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incr()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Timer implements Incrementable {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decr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inc()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crementable 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.incr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cannot guarantee that method incr() is at the same offs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untime typ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6348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cution environments may use the v-table pointer as a mean of knowing the exact type of an object at run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what happens in C++ with RTTI, in .NET CLR and JV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s the cost of having exact runtime type information is allocating the v-pointer to all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 leaves the choice to the programmer: without RTTI no v-pointer is allocated in classes without virtual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verlo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loading is the mechanism that a language may provide to bind more than one object to a 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the following clas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foo() {…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foo(int i) {…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am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overloaded and it identifies two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ethod overlo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73200" y="1628280"/>
            <a:ext cx="829152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oading is mostly used for methods because the compiler may infer which version of the method should be invoked by looking at argument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scenes the compiler generates a name for the method which includes the type of the signature (not the return type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known a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me mang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evious example the nam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o_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be associated to the first method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o_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the seco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method is invoked the compiler looks at the types of the arguments used in the call and chooses the appropriate version of the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implicit conversions may be involved and the resolution process may lead to more than one method: in this case the call is considered ambiguous and a compilation error is rai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perator overlo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tax for operators such as + and – have is different from invocation of the function they repres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 and other languages (i.e. C#) allow overloading these operators in the same way as ordinary functions and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ly each invocation of + is reinterpreted as a function invocation so the standard overloading process appl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(C++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a + b; // operator=(c, operator+(a, b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Late binding: only on first arg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4360" y="1988640"/>
            <a:ext cx="2590560" cy="25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oo(A a) {…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() {…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ai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B extends A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oo(B b) {…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g() {…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i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3708360" y="206064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(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708360" y="24192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708360" y="34290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(A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708360" y="378936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708360" y="4583160"/>
            <a:ext cx="1511280" cy="35856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761640" y="1647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s v-tabl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3755160" y="3062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’s v-tabl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Line 11"/>
          <p:cNvSpPr/>
          <p:nvPr/>
        </p:nvSpPr>
        <p:spPr>
          <a:xfrm flipH="1" flipV="1">
            <a:off x="2555640" y="3860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Line 12"/>
          <p:cNvSpPr/>
          <p:nvPr/>
        </p:nvSpPr>
        <p:spPr>
          <a:xfrm flipH="1" flipV="1">
            <a:off x="2410920" y="2708280"/>
            <a:ext cx="1297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Line 13"/>
          <p:cNvSpPr/>
          <p:nvPr/>
        </p:nvSpPr>
        <p:spPr>
          <a:xfrm flipH="1" flipV="1">
            <a:off x="2771640" y="3573000"/>
            <a:ext cx="936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2700360" y="2276640"/>
            <a:ext cx="1008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Line 15"/>
          <p:cNvSpPr/>
          <p:nvPr/>
        </p:nvSpPr>
        <p:spPr>
          <a:xfrm flipH="1">
            <a:off x="255564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6156360" y="22050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Rectangle 17"/>
          <p:cNvSpPr/>
          <p:nvPr/>
        </p:nvSpPr>
        <p:spPr>
          <a:xfrm>
            <a:off x="6156360" y="184644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-poin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Rectangle 18"/>
          <p:cNvSpPr/>
          <p:nvPr/>
        </p:nvSpPr>
        <p:spPr>
          <a:xfrm>
            <a:off x="6589800" y="357192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6589800" y="32130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-poin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Rectangle 20"/>
          <p:cNvSpPr/>
          <p:nvPr/>
        </p:nvSpPr>
        <p:spPr>
          <a:xfrm>
            <a:off x="6589800" y="3933720"/>
            <a:ext cx="1511280" cy="35892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Line 21"/>
          <p:cNvSpPr/>
          <p:nvPr/>
        </p:nvSpPr>
        <p:spPr>
          <a:xfrm flipH="1">
            <a:off x="5219640" y="1989000"/>
            <a:ext cx="936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Line 22"/>
          <p:cNvSpPr/>
          <p:nvPr/>
        </p:nvSpPr>
        <p:spPr>
          <a:xfrm flipH="1">
            <a:off x="5219280" y="335772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Text Box 23"/>
          <p:cNvSpPr/>
          <p:nvPr/>
        </p:nvSpPr>
        <p:spPr>
          <a:xfrm>
            <a:off x="824400" y="4981680"/>
            <a:ext cx="21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a = new A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foo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f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Text Box 24"/>
          <p:cNvSpPr/>
          <p:nvPr/>
        </p:nvSpPr>
        <p:spPr>
          <a:xfrm>
            <a:off x="3704400" y="497520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b = new B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foo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g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f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Text Box 25"/>
          <p:cNvSpPr/>
          <p:nvPr/>
        </p:nvSpPr>
        <p:spPr>
          <a:xfrm>
            <a:off x="6298200" y="50338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c = b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.foo(c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.f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8245080" y="21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Text Box 27"/>
          <p:cNvSpPr/>
          <p:nvPr/>
        </p:nvSpPr>
        <p:spPr>
          <a:xfrm>
            <a:off x="8534160" y="270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Line 28"/>
          <p:cNvSpPr/>
          <p:nvPr/>
        </p:nvSpPr>
        <p:spPr>
          <a:xfrm flipH="1" flipV="1">
            <a:off x="7667640" y="1844640"/>
            <a:ext cx="649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Line 29"/>
          <p:cNvSpPr/>
          <p:nvPr/>
        </p:nvSpPr>
        <p:spPr>
          <a:xfrm flipH="1">
            <a:off x="8100720" y="299736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Text Box 30"/>
          <p:cNvSpPr/>
          <p:nvPr/>
        </p:nvSpPr>
        <p:spPr>
          <a:xfrm>
            <a:off x="8677080" y="3357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Line 31"/>
          <p:cNvSpPr/>
          <p:nvPr/>
        </p:nvSpPr>
        <p:spPr>
          <a:xfrm flipH="1" flipV="1">
            <a:off x="8100720" y="3213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Rectangle 32"/>
          <p:cNvSpPr/>
          <p:nvPr/>
        </p:nvSpPr>
        <p:spPr>
          <a:xfrm>
            <a:off x="3708360" y="4149720"/>
            <a:ext cx="1511280" cy="35892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(B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0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0" dur="2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4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2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8" dur="2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2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2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2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0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2" dur="2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0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8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8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80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8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8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0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4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8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2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8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ming Languages and type chec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lo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916360" y="1413000"/>
            <a:ext cx="2663640" cy="720720"/>
          </a:xfrm>
          <a:prstGeom prst="wedgeRoundRectCallout">
            <a:avLst>
              <a:gd name="adj1" fmla="val -56851"/>
              <a:gd name="adj2" fmla="val 66078"/>
              <a:gd name="adj3" fmla="val 16667"/>
            </a:avLst>
          </a:prstGeom>
          <a:solidFill>
            <a:srgbClr val="adc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ype check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771640" y="2349360"/>
            <a:ext cx="4608720" cy="1224000"/>
          </a:xfrm>
          <a:prstGeom prst="wedgeRoundRectCallout">
            <a:avLst>
              <a:gd name="adj1" fmla="val -60541"/>
              <a:gd name="adj2" fmla="val -12777"/>
              <a:gd name="adj3" fmla="val 16667"/>
            </a:avLst>
          </a:prstGeom>
          <a:solidFill>
            <a:srgbClr val="adc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type check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entirely strongly typed (union, interoperability of pointers and arrays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2556000" y="2708280"/>
            <a:ext cx="4608360" cy="1224000"/>
          </a:xfrm>
          <a:prstGeom prst="wedgeRoundRectCallout">
            <a:avLst>
              <a:gd name="adj1" fmla="val -57268"/>
              <a:gd name="adj2" fmla="val -13555"/>
              <a:gd name="adj3" fmla="val 16667"/>
            </a:avLst>
          </a:prstGeom>
          <a:solidFill>
            <a:srgbClr val="adc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type check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entirely strongly typed (untagged variant records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2771640" y="3429000"/>
            <a:ext cx="4824720" cy="1224000"/>
          </a:xfrm>
          <a:prstGeom prst="wedgeRoundRectCallout">
            <a:avLst>
              <a:gd name="adj1" fmla="val -65828"/>
              <a:gd name="adj2" fmla="val -33009"/>
              <a:gd name="adj3" fmla="val 16667"/>
            </a:avLst>
          </a:prstGeom>
          <a:solidFill>
            <a:srgbClr val="adc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type check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entirely strongly typed (as C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type checking (virtual methods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700360" y="3789360"/>
            <a:ext cx="4824360" cy="1584360"/>
          </a:xfrm>
          <a:prstGeom prst="wedgeRoundRectCallout">
            <a:avLst>
              <a:gd name="adj1" fmla="val -64476"/>
              <a:gd name="adj2" fmla="val -28254"/>
              <a:gd name="adj3" fmla="val 16667"/>
            </a:avLst>
          </a:prstGeom>
          <a:solidFill>
            <a:srgbClr val="adc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type check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type checking (virtual methods, upcasting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type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2700360" y="4365720"/>
            <a:ext cx="4824360" cy="1008000"/>
          </a:xfrm>
          <a:prstGeom prst="wedgeRoundRectCallout">
            <a:avLst>
              <a:gd name="adj1" fmla="val -66944"/>
              <a:gd name="adj2" fmla="val -25592"/>
              <a:gd name="adj3" fmla="val 16667"/>
            </a:avLst>
          </a:prstGeom>
          <a:solidFill>
            <a:srgbClr val="adc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type check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type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2916360" y="4581360"/>
            <a:ext cx="4824360" cy="1008360"/>
          </a:xfrm>
          <a:prstGeom prst="wedgeRoundRectCallout">
            <a:avLst>
              <a:gd name="adj1" fmla="val -67240"/>
              <a:gd name="adj2" fmla="val -6537"/>
              <a:gd name="adj3" fmla="val 16667"/>
            </a:avLst>
          </a:prstGeom>
          <a:solidFill>
            <a:srgbClr val="adc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type check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type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2843280" y="4941720"/>
            <a:ext cx="4824360" cy="1008360"/>
          </a:xfrm>
          <a:prstGeom prst="wedgeRoundRectCallout">
            <a:avLst>
              <a:gd name="adj1" fmla="val -69777"/>
              <a:gd name="adj2" fmla="val 4958"/>
              <a:gd name="adj3" fmla="val 16667"/>
            </a:avLst>
          </a:prstGeom>
          <a:solidFill>
            <a:srgbClr val="adc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type check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type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views for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otational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are set of values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ma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seman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t-in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e types (application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 constru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traction-bas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is an interface consisting of a set of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nguag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, long, float, double (signed/unsign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 (1 byte, 2 byt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um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range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site typ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ype Conversions and Ca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the following definiti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add(int i, int j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add2(int i, double j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the following call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(2, 3); // Ex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(2, (int)3.0); // Explicit ca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2(2, 3); // Implicit ca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emory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e types on 32 bits architectures require from 1 to 8 by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ite types are represented by chaining constituent values toge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performance reasons often compilers employ padding to align fields to multiple of 4 bytes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S</cp:lastModifiedBy>
  <dcterms:modified xsi:type="dcterms:W3CDTF">2014-11-21T13:15:23Z</dcterms:modified>
  <cp:revision>91</cp:revision>
  <dc:subject/>
  <dc:title>PowerPoint Presentation</dc:title>
</cp:coreProperties>
</file>